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8247-44EB-4014-9A71-6D060E93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E10-53F2-40C7-8E25-CCB53B0B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89FC-5A36-4FAC-BA2D-3C8750C9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8EDD-01F6-463A-8286-99D7E80E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73C8-F7DE-4E1D-AB63-04734115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C6A2-0948-4C62-A4BD-F1EBA320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685D-A970-472C-ABBF-1079FB37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F3CD-080C-49ED-BBDE-E04E29AC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3E2-253E-4912-9222-8FB2C29F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57B4-E6EC-4725-8A85-AE0D6A89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EAF8-AE7C-4734-A0B4-6C0CBFC4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7061-0D20-4EA3-9ABE-86EA57F3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9104-5964-4354-AA37-DB26B543A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1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Bradley Hand ITC"/>
              </a:rPr>
              <a:t>A small sample of our class work </a:t>
            </a:r>
            <a:br>
              <a:rPr sz="3600"/>
            </a:br>
            <a:r>
              <a:rPr b="1" lang="en-US" sz="3600" spc="-1" strike="noStrike" u="sng">
                <a:solidFill>
                  <a:srgbClr val="ffffff"/>
                </a:solidFill>
                <a:uFillTx/>
                <a:latin typeface="Bradley Hand ITC"/>
              </a:rPr>
              <a:t>supporting this project.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Initial Garden Design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Q &amp; A’s about purpose of Gard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Q &amp; A’s about sustainabilit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Photos of the class in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80880"/>
            <a:ext cx="8305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33"/>
                </a:solidFill>
                <a:latin typeface="Bradley Hand ITC"/>
              </a:rPr>
              <a:t>Room 14’s Garden and Pizza Oven Project</a:t>
            </a:r>
            <a:br>
              <a:rPr sz="6000"/>
            </a:br>
            <a:r>
              <a:rPr b="1" lang="en-US" sz="4400" spc="-1" strike="noStrike">
                <a:solidFill>
                  <a:srgbClr val="33cc33"/>
                </a:solidFill>
                <a:latin typeface="Bradley Hand ITC"/>
              </a:rPr>
              <a:t>- Meadowbank School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012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4585" t="0" r="6785" b="3334"/>
          <a:stretch/>
        </p:blipFill>
        <p:spPr>
          <a:xfrm>
            <a:off x="152280" y="152280"/>
            <a:ext cx="4419720" cy="6629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24280" y="15228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4241880" cy="3181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28600" y="6062760"/>
            <a:ext cx="1371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83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772400" y="6062760"/>
            <a:ext cx="1371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573800" cy="6553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876920" y="34290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4856" t="0" r="6142" b="3531"/>
          <a:stretch/>
        </p:blipFill>
        <p:spPr>
          <a:xfrm>
            <a:off x="4519440" y="152280"/>
            <a:ext cx="4395960" cy="6553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0" t="7031" r="0" b="27350"/>
          <a:stretch/>
        </p:blipFill>
        <p:spPr>
          <a:xfrm>
            <a:off x="380880" y="3429000"/>
            <a:ext cx="3733920" cy="3267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62012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81880" cy="6094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603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012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3519" t="0" r="8308" b="3851"/>
          <a:stretch/>
        </p:blipFill>
        <p:spPr>
          <a:xfrm>
            <a:off x="152280" y="152280"/>
            <a:ext cx="4368960" cy="6553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52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8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772400" y="6062760"/>
            <a:ext cx="1371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8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3435" t="0" r="7022" b="3088"/>
          <a:stretch/>
        </p:blipFill>
        <p:spPr>
          <a:xfrm>
            <a:off x="4572000" y="152280"/>
            <a:ext cx="4403880" cy="6553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267440" cy="3202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52280" y="35053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77240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4:45:16Z</dcterms:created>
  <dc:creator> </dc:creator>
  <dc:description/>
  <dc:language>en-US</dc:language>
  <cp:lastModifiedBy> </cp:lastModifiedBy>
  <dcterms:modified xsi:type="dcterms:W3CDTF">2009-04-30T05:05:56Z</dcterms:modified>
  <cp:revision>4</cp:revision>
  <dc:subject/>
  <dc:title>Slide 1</dc:title>
</cp:coreProperties>
</file>